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AA8-E21D-4DAC-B8C5-18AFFCFC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4BE4-55A8-400F-A4D0-64EFA317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4FB-E1A0-41EB-9AF7-E2845B10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50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78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50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78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E17-FA24-41E2-8D6D-173966E9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3221-CBD3-47AB-A3F4-90F5D57E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4A7B-53B6-49CC-9A34-F5C16C13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4139-B1A6-413D-86EA-947E001A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1520-956B-4F6E-BF2F-9D90FC16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36CB-0BE9-41C4-9CBC-B9F94948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63CB-AAE3-4F18-8EE1-D4E670AC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17FE-684A-447A-8BEB-1144588E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C32-0F92-4BD4-A37D-0E964C34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E7A2-72AD-4C71-AC8E-E63AA881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1A2F-620F-42E1-A56D-D76A9D99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EFFE-99CC-4531-BA51-437B7592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2124-EFA0-437D-8814-EF89C809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50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78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50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78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0420-8B0A-4753-B75B-C0BB6C23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0B05-A551-4732-AA2C-E64F2DF9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A89-DC05-4305-8652-D1E7D423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7F3-CF6D-4D43-9F36-959C857B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9DC-A4AE-4922-A595-C7FA0FA4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1F5-CCFA-4009-A7DA-FC44A758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DEE-82D0-41B9-BFAC-AA5BB159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735-0717-4F08-9BE5-AD606BEC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1936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BD0A-30D0-4650-8C4F-15FE1B9C3F8D}" type="slidenum"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4266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c24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1722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C4B8-53CA-4929-8B52-988AD2149FD5}" type="slidenum"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654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654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Image:McCluresCoverJan190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4266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c24"/>
                </a:solidFill>
                <a:latin typeface="Arial Black"/>
              </a:rPr>
              <a:t>Progressivism</a:t>
            </a:r>
            <a:endParaRPr b="0" lang="en-US" sz="34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" y="556272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Changing America politically, economically, &amp; socially/morally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5400"/>
                </a:solidFill>
                <a:latin typeface="Arial"/>
              </a:rPr>
              <a:t>Progress</a:t>
            </a: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: a forward or onward movement; as to an objective or to a goa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5400"/>
                </a:solidFill>
                <a:latin typeface="Arial"/>
              </a:rPr>
              <a:t>Reform:</a:t>
            </a: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 to  change into an improved form or condition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Goals of the Progressive Movement</a:t>
            </a:r>
            <a:endParaRPr b="0" lang="en-US" sz="32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To return control of government to the peopl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Restore economic opportunities for all groups of peopl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orrect injustices in American life for all groups of peopl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How do we reach our goals?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By using science and technology.  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or example the assembly line = efficiency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(research used)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1.  Restoring Economic Opportunities</a:t>
            </a: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4305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Muckrakers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Journalists who wrote about corrupt business practices and politicians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Jacob Riis, Ida B. Wells Upton Sinclair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</p:txBody>
      </p:sp>
      <p:pic>
        <p:nvPicPr>
          <p:cNvPr id="92" name="" descr="McClure's Magazine (cover, Jan, 1901) published many early muckraker article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2514600"/>
            <a:ext cx="2880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2.  Reforming Govt (returning control to the people)</a:t>
            </a:r>
            <a:endParaRPr b="0" lang="en-US" sz="32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a.  Make govt efficient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i. Gov’t divided into several departments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iii. Easier to manage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hanges in the election process to allow the people to get more involved…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2.  Reforming Govt (returning control to the people)</a:t>
            </a:r>
            <a:endParaRPr b="0" lang="en-US" sz="32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b.  Direct primary – people for a candidat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.  Initiative – citizens could initiate new law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d.  Referendum- people vote on new laws w/o going to house legislature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e.  Recall – could vote out an elected officia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.  17</a:t>
            </a:r>
            <a:r>
              <a:rPr b="0" lang="en-US" sz="3200" spc="-1" strike="noStrike" baseline="30000">
                <a:solidFill>
                  <a:srgbClr val="5654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 Amendment – direct voting for senator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c24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414c24"/>
                </a:solidFill>
                <a:latin typeface="Times New Roman"/>
              </a:rPr>
              <a:t>. Restoring society (correcting injustices)</a:t>
            </a: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654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Times New Roman"/>
              </a:rPr>
              <a:t>Min. age and hours for children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654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Times New Roman"/>
              </a:rPr>
              <a:t>Compensation benefits,better working conditions, and hr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654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Times New Roman"/>
              </a:rPr>
              <a:t>Women’s Christian Temperance Union – pushed for prohibition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6:27:49Z</dcterms:created>
  <dc:creator>School District U46</dc:creator>
  <dc:description/>
  <cp:keywords/>
  <dc:language>en-US</dc:language>
  <cp:lastModifiedBy>School District U46</cp:lastModifiedBy>
  <dcterms:modified xsi:type="dcterms:W3CDTF">2010-10-19T17:13:50Z</dcterms:modified>
  <cp:revision>16</cp:revision>
  <dc:subject/>
  <dc:title>Progressiv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51033</vt:lpwstr>
  </property>
</Properties>
</file>